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4.jpeg" ContentType="image/jpeg"/>
  <Override PartName="/ppt/media/image26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4.jpeg" ContentType="image/jpeg"/>
  <Override PartName="/ppt/media/image25.jpeg" ContentType="image/jpeg"/>
  <Override PartName="/ppt/media/image28.wmf" ContentType="image/x-wmf"/>
  <Override PartName="/ppt/media/image6.jpeg" ContentType="image/jpeg"/>
  <Override PartName="/ppt/media/image19.jpeg" ContentType="image/jpeg"/>
  <Override PartName="/ppt/media/image31.wmf" ContentType="image/x-wmf"/>
  <Override PartName="/ppt/media/image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13.jpeg" ContentType="image/jpeg"/>
  <Override PartName="/ppt/media/image29.jpeg" ContentType="image/jpeg"/>
  <Override PartName="/ppt/media/image3.wmf" ContentType="image/x-wmf"/>
  <Override PartName="/ppt/media/image1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wmf" ContentType="image/x-wmf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media/image3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8C67-528E-45B9-B071-95351F89D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0D04-F17A-4E5A-A395-2F2D9BE8D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EF46-7EB1-497D-BF0A-4F840A16D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6009-493E-4322-A067-90BBFCCB9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E1778-3464-492A-93EE-898E87B14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CA2B5-CC0B-4D43-B1FA-0878F073C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54E27-6DD3-422E-B28B-0201FACD4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D9E76-E357-4296-8CB6-641D4E66F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D90DC-45CE-445A-A55E-BF9C0CC23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0E5B5-FD20-4DBA-AC27-FAB042091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D6E32-532E-4B5B-A388-DE8A2D6D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79F9-8111-46B2-8329-21C6009AD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3AE65-5758-4E8A-BDF9-F9884F14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BA0DD-DB9A-42E5-8CAF-D4F6F989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0B56A-D3EC-4F7C-B8A1-06851C283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3591A-B5CE-4C76-91BE-3508EFF75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50743-52EA-42DB-B1C2-71BA72A9A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A7BF-A485-4358-A8D4-91EE5C8F3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FCFA-E951-4782-8EB4-9AECE7C58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01AB-8065-43C8-BC3E-4859EF822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9EEA-60BA-4CE6-AAD9-C99689237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1CC7-9424-4685-B37F-637B17D8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93B7-FA3D-4495-B79F-2E41F9A6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F69D-979F-4086-89F8-4B29AC2E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B06F4-3D31-45CA-8D9D-2EBA0E1C192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6268B-0782-4BA3-87B3-6EA8DB0F1C0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7.jpe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0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2374920"/>
            <a:ext cx="77724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hapter 20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duced Voltages and Induct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99"/>
                </a:solidFill>
                <a:latin typeface="Verdana"/>
              </a:rPr>
              <a:t>Electromagnetic Induction –</a:t>
            </a:r>
            <a:br>
              <a:rPr sz="4200"/>
            </a:br>
            <a:r>
              <a:rPr b="0" lang="en-US" sz="4200" spc="-1" strike="noStrike">
                <a:solidFill>
                  <a:srgbClr val="333399"/>
                </a:solidFill>
                <a:latin typeface="Verdana"/>
              </a:rPr>
              <a:t>An Experiment</a:t>
            </a:r>
            <a:endParaRPr b="0" lang="en-US" sz="4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017800"/>
            <a:ext cx="430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hen a magnet moves toward a loop of wire, the ammeter shows the presence of a current (a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hen the magnet is held stationary, there is no current (b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hen the magnet moves away from the loop, the ammeter shows a current in the opposite direction (c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f the loop is moved instead of the magnet, a current is also detec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278320" y="1828800"/>
            <a:ext cx="3484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99"/>
                </a:solidFill>
                <a:latin typeface="Verdana"/>
              </a:rPr>
              <a:t>Electromagnetic Induction – Results of the Experiment</a:t>
            </a:r>
            <a:endParaRPr b="0" lang="en-US" sz="4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current is set up in the circuit as long as there is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relative motio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etween the magnet and the loo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e experimental results are found whether the loop moves or the magnet mov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current is called an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induced curren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ecause is it produced by an induced em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araday’s Law and Electromagnetic Induc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instantaneous emf induced in a circuit equals the time rate of change of magnetic flux through the circui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f a circuit contains N tightly wound loops and the flux changes by ΔΦ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during a time interval Δt, the average emf induced is given by 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Faraday’s Law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4952880" y="5562720"/>
                <a:ext cx="2133720" cy="104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N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Φ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araday’s Law and Lenz’ Law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hange in the flux,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ΔΦ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can be produced by a change in B, A or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nc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Φ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B A cos 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negative sign in Faraday’s Law is included to indicate the polarity of the induced emf, which is found by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Lenz’ Law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current caused by the induced emf travels in the direction that creates a magnetic field with flux opposing the change in the original flux through the circui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Lenz’ Law – Exampl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magnetic field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becomes smaller with tim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s reduces the flux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induced current will produce an induced field,  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in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in the same direction as the original fiel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973920" y="2906640"/>
          <a:ext cx="152280" cy="20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73920" y="2906640"/>
                    <a:ext cx="152280" cy="2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4952880" y="2313000"/>
            <a:ext cx="3962520" cy="3630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2514600" y="5105520"/>
          <a:ext cx="285840" cy="380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14600" y="51055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1676520" y="2438280"/>
          <a:ext cx="285480" cy="381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76520" y="2438280"/>
                    <a:ext cx="28548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Verdana"/>
              </a:rPr>
              <a:t>Applications of Faraday’s Law – Ground Fault Interrupters</a:t>
            </a:r>
            <a:endParaRPr b="0" lang="en-US" sz="4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423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ground fault interrupter (GFI) is a safety device that protects against electrical shoc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ire 1 leads from the wall outlet to the applian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ire 2 leads from the appliance back to the wall outle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iron ring confines the magnetic field, which is generally 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f a leakage occurs, the field is no longer 0 and the induced voltage triggers a circuit breaker shutting off the curr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456080" y="2590920"/>
            <a:ext cx="453564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pplications of Faraday’s Law – Electric Guita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vibrating string induces an emf in a coi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permanent magnet inside the coil magnetizes a portion of the string nearest the coi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 the string vibrates at some frequency, its magnetized segment produces a changing flux through the pickup coi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changing flux produces an induce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f that is fed to an amplifi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343400" y="2133720"/>
            <a:ext cx="46116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pplications of Faraday’s Law – Apnea Monito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coil of wire attached to the chest carries an alternating curr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 induced emf produced by the varying field passes through a pick up coi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en breathing stops, the pattern of induced voltages stabilizes and external monitors sound an aler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191120" y="2336760"/>
            <a:ext cx="476388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pplication of Faraday’s Law – Motional emf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423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traight conductor of length ℓ moves perpendicularly with constant velocity through a uniform fiel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lectrons in the conductor experience a magnetic for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 = q v 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lectrons tend to move to the lower end of the conduc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105520" y="2057400"/>
            <a:ext cx="39765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tional emf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s the negative charges accumulate at the base, a net positive charge exists at the upper end of the conduc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s a result of this charge separation, an electric field is produced in the conduc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harges build up at the ends of the conductor until the downward magnetic force is balanced by the upward electric fo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re is a potential difference between the upper and lower ends of the conduc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ichael Farada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791 – 186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eat experimental scienti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ed electric motor, generator and transform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overed electromagnetic indu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overed laws of electrolys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029200" y="1828800"/>
            <a:ext cx="36734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tional emf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otential difference between the ends of the conductor can be found b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ΔV = B ℓ 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upper end is at a higher potential than the lower e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otential difference is maintained across the conductor as long as there is motion through the fiel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the motion is reversed, the polarity of the potential difference is also rever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tional emf in a Circui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ssume the moving bar has zero resistan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s the bar is pulled to the right with a given velocity under the influence of an applied force, the free charges experience a magnetic force along the length of the ba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force sets up an induced current because the charges are free to move in the closed pat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070600" y="1905120"/>
            <a:ext cx="392112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tional emf in a Circuit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423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hanging magnetic flux through the loop and the corresponding induced emf in the bar result from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hange in are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loo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induced, motional emf, acts like a battery in the circu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960800" y="2162160"/>
            <a:ext cx="3994200" cy="401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4" name=""/>
          <p:cNvGraphicFramePr/>
          <p:nvPr/>
        </p:nvGraphicFramePr>
        <p:xfrm>
          <a:off x="1219320" y="5334120"/>
          <a:ext cx="3657600" cy="928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5334120"/>
                    <a:ext cx="3657600" cy="92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Lenz’ Law Revisited – Moving Bar Exampl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s the bar moves to the right, the magnetic flux through the circuit increases with time because the area of the loop increas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induced current must be in a direction such that it opposes the change in the external magnetic flux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495680" y="1854360"/>
            <a:ext cx="4525920" cy="46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Lenz’ Law, Bar Example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lux due to the external field is increasing into the p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lux due to the induced current must be out of the p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refore the current must be counterclockwise when the bar moves to the righ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Lenz’ Law, Bar Example, final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bar is moving toward the lef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agnetic flux through the loop is decreasing with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induced current must be clockwise to to produce its own flux into the p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495680" y="1981080"/>
            <a:ext cx="4635720" cy="45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Lenz’ Law Revisited, Conservation of Energ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me the bar is moving to the righ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me the induced current is clockwi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agnetic force on the bar would be to the righ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force would cause an acceleration and the velocity would incre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would cause the flux to increase and the current to increase and the velocity to increase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would violate Conservation of Energy and so therefore, the current must be counterclockwi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Lenz’ Law – Moving Magnet Exampl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415116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bar magnet is moved to the right toward a stationary loop of wire (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 the magnet moves, the magnetic flux increases with ti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induced current produces a flux to the left, so the current is in the direction shown (b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914400" y="1967040"/>
            <a:ext cx="2349360" cy="21477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3645000" y="2043000"/>
            <a:ext cx="2361960" cy="19987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6477120" y="1967040"/>
            <a:ext cx="227304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Lenz’ Law, Final Not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applying Lenz’ Law, there are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two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magnetic fields to consid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external changing magnetic field that induces the current in the loo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agnetic field produced by the current in the loo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pplication – Tape Recorde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2017800"/>
            <a:ext cx="423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agnetic tape moves past a recording and playback he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tape is a plastic ribbon coated with iron oxide or chromium oxi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record, the sound is converted to an electrical signal which passes to an electromagnet that magnetizes the tape in a particular patter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playback, the magnetized pattern is converted back into an induced current driving a speak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495680" y="2286000"/>
            <a:ext cx="4459320" cy="37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araday’s Experiment – Set Up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1752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urrent can be produced by a changing magnetic fiel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rst shown in an experiment by Michael Farad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primary coil is connected to a batte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secondary coil is connected to an amme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743200" y="4118040"/>
            <a:ext cx="388620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Generator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ternating Current (AC) genera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verts mechanical energy to electrical energ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ists of a wire loop rotated by some external me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are a variety of sources that can supply the energy to rotate the loo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se may include falling water, heat by burning coal to produce ste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C Generators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441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sic operation of the genera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s the loop rotates, the magnetic flux through it changes with ti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s induces an emf and a current in the external circu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ends of the loop are connected to slip rings that rotate with the loo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nections to the external circuit are made by stationary brushes in contact with the slip ring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724280" y="2133720"/>
            <a:ext cx="423072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C Generators, final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emf generated by the rotating loop can be found b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ε =2 B ℓ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=2 B ℓv sin 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the loop rotates with a constant angular speed, ω, and N tur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ε = N B A ω sin ω 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ε = ε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max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hen loop is parallel to the fiel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ε = 0 when when the loop is perpendicular to the fiel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343400" y="2133720"/>
            <a:ext cx="4535640" cy="42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C Generators – Detail of Rotating Loop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1920" y="2133720"/>
            <a:ext cx="3886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agnetic force on the charges in the wires AB and CD is perpendicular to the length of the wi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emf is generated in wires BC and 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mf produced in each of these wires is ε= B ℓ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B ℓv sin 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051440" y="2209680"/>
            <a:ext cx="5016240" cy="34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C Generator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onents are essentially the same as that of an ac genera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ajor difference is the contacts to the rotating loop are made by a split ring, or commuta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952880" y="1981080"/>
            <a:ext cx="38862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C Generators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61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output voltage always has the same polarit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current is a pulsing curr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produce a steady current, many loops and commutators around the axis of rotation are us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multiple outputs are superimposed and the output is almost free of fluctu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495680" y="2362320"/>
            <a:ext cx="4459320" cy="38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tor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tors are devices that convert electrical energy into mechanical energ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motor is a generator run in rever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otor can perform useful mechanical work when a shaft connected to its rotating coil is attached to some external dev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tors and Back emf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hras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ack em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used for an emf that tends to reduce the applied curr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a motor is turned on, there is no back emf initial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urrent is very large because it is limited only by the resistance of the coi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4456080" y="2133720"/>
            <a:ext cx="4383000" cy="39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tors and Back emf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 the coil begins to rotate, the induced back emf opposes the applied volt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urrent in the coil is reduc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ower requirements for starting a motor and for running it under heavy loads are greater than those for running the motor under average loa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elf-inductanc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6680" y="2017800"/>
            <a:ext cx="788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elf-inductan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ccurs when the changing flux through a circuit arises from the circuit itsel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s the current increases, the magnetic flux through a loop due to this current also increas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increasing flux induces an emf that opposes the change in magnetic flux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s the magnitude of the current increases, the rate of increase lessens and the induced emf decreas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opposing emf results in a gradual increase of the curr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araday’s Experime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819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urpose of the secondary circuit is to detect current that might be produced by the magnetic fiel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the switch is closed, the ammeter reads a current and then returns to zer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the switch is opened, the ammeter reads a current in the opposite direction and then returns to zer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there is a steady current in the primary circuit, the ammeter reads zer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elf-inductance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elf-induced emf must be proportional to the time rate of change of the curr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 is a proportionality constant called 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duct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dev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negative sign indicates that a changing current induces an emf in opposition to that chan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1785960" y="3106800"/>
          <a:ext cx="1915920" cy="10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5960" y="3106800"/>
                    <a:ext cx="19159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elf-inductance, final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inductance of a coil depends on geometric facto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SI unit of self-inductance is the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Hen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 H = 1 (V · s) / 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ou can determine an expression for 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2254320" y="5548320"/>
          <a:ext cx="3187800" cy="98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4320" y="5548320"/>
                    <a:ext cx="318780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Joseph Henr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017800"/>
            <a:ext cx="430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797 – 1878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rst director of the Smithsonia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rst president of the Academy of Natural Scien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rst to produce an electric current with a magnetic fiel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the design of the electro-magnetic and constructed a mo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iscovered self-inductan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214960" y="1905120"/>
            <a:ext cx="38527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Inductor in a Circui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ductance can be interpreted as a measure of opposition to the rate of change in the curr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member resistance R is a measure of opposition to the curr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 a circuit is completed, the current begins to increase, but the inductor produces an emf that opposes the increasing curr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fore, the current doesn’t change from 0 to its maximum instantaneous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L Circui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the current reaches its maximum, the rate of change and the back emf are ze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ime constant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for an RL circuit is the time required for the current in the circuit to reach 63.2% of its final val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114800" y="2209680"/>
            <a:ext cx="4800600" cy="41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L Circuit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time constant depends on R and 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current at any time can be found b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927080" y="2954160"/>
          <a:ext cx="1251000" cy="114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7080" y="2954160"/>
                    <a:ext cx="1251000" cy="11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2471760" y="5318280"/>
          <a:ext cx="2905200" cy="102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71760" y="5318280"/>
                    <a:ext cx="2905200" cy="10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nergy Stored in a Magnetic Field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emf induced by an inductor prevents a battery from establishing an instantaneous current in a circu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battery has to do work to produce a curr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work can be thought of as energy stored by the inductor in its magnetic fiel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½ L 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nywhere work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,3,6,10,13,18,20,23,25,32,34,36,38,40,4748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araday’s Conclusio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lectrical current is produced by a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hanging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magnetic fiel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econdary circuit acts as if a source of emf were connected to it for a short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 is customary to say that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n induced emf is produced in the secondary circuit by the changing magnetic fiel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agnetic Flux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emf is actually induced by a change in the quantity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magnetic flu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rather than simply by a change in the magnetic fiel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gnetic flux is defined in a manner similar to that of electrical flu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gnetic flux is proportional to both the strength of the magnetic field passing through the plane of a loop of wire and the area of the loo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agnetic Flux, 2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ou are given a loop of w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wire is in a uniform magnetic field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loop has an area 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flux is defined 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Φ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=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= B A cos 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θ is the angle between B and the normal to the pla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362320" y="3335400"/>
          <a:ext cx="34272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3335400"/>
                    <a:ext cx="3427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111640" y="1981080"/>
            <a:ext cx="39560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agnetic Flux, 3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45716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the field is perpendicular to the plane of the loop, as in a, θ = 0 and Φ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Φ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B, ma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B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the field is parallel to the plane of the loop, as in b, θ = 90° and Φ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flux can be negative, for example if θ = 180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units of flux are 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² = Wb (Weber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514600" y="1905120"/>
            <a:ext cx="365760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agnetic Flux, final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lux can be visualized with respect to magnetic field li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value of the magnetic flux is proportional to the total number of lines passing through the loo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the area is perpendicular to the lines, the maximum number of lines pass through the area and the flux is a maxim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the area is parallel to the lines, no lines pass through the area and the flux is 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5T21:11:15Z</dcterms:created>
  <dc:creator>Brooks/Cole</dc:creator>
  <dc:description/>
  <dc:language>en-US</dc:language>
  <cp:lastModifiedBy>DCPS</cp:lastModifiedBy>
  <dcterms:modified xsi:type="dcterms:W3CDTF">2008-02-04T18:33:55Z</dcterms:modified>
  <cp:revision>27</cp:revision>
  <dc:subject/>
  <dc:title>Chapter 20</dc:title>
</cp:coreProperties>
</file>